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9A13D-68BB-4600-AD1A-26E033E2F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5BF0-25FA-47B3-8103-9620AE733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7BA3-1B62-42AC-828C-982C7751D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22C9C-0C5D-4658-A173-AFE5CE35B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21FD0-6C96-48B9-9DD8-E129301A3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DBF00-AA71-437E-81F6-6BE3DD05D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1BFB-AC23-4F2F-8C2E-2AA0D39D6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F8527-678A-4255-9648-8FE073B9C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1ADFB-9365-4674-86D2-90C14D8F5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3EEEC-410E-4A4D-AF55-B6E68C95F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B0744-0AB5-499F-98A8-CFAA20E89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EFAB1-C27C-432B-AE28-BDD636D38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61C92-036D-4F71-AA09-936844B4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BA7E-3873-4A25-8AC2-6C242B8C5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52B22-B6E1-43B5-A3A0-306D8F0EE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815F0-DCE3-4E36-9EE2-5B21471DC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AA5AE-C85A-4481-9D7F-DD8C83001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4BF8C-01FD-4FB8-9059-903ED136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6B98B-F911-43D2-A93C-1F7F9CA9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4F3EA-53F0-4BD3-B751-8A4EA55A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36E7-22E9-473D-A605-BB9D34C2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634A-8A6F-4AD8-B8E8-0E24E0295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82A6-5415-4D38-B81F-D28A3268F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2C3B-EECD-43FD-83A1-3497884E0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638A-062D-409D-A203-3A018276B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39DD-0F09-41E0-9401-A36E78545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uthority, Power, and Education</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anita D. Price and Carolyn Cutler Osbor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mplications of Personal Authori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implication of this theory is that there are an awful lot of people running around who look like grownups but who are really overgrown kids.  You will be working for and with some of these people and you need to learn to recognize the symptoms of such a person so you can avoid being victimiz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Foray into the World of Overgrown Kids</a:t>
            </a:r>
            <a:endParaRPr b="1" lang="en-US" sz="4400" spc="-1" strike="noStrike">
              <a:solidFill>
                <a:srgbClr val="ffffb7"/>
              </a:solidFill>
              <a:latin typeface="Arial Black"/>
            </a:endParaRPr>
          </a:p>
        </p:txBody>
      </p:sp>
      <p:sp>
        <p:nvSpPr>
          <p:cNvPr id="119" name="PlaceHolder 2"/>
          <p:cNvSpPr>
            <a:spLocks noGrp="1"/>
          </p:cNvSpPr>
          <p:nvPr>
            <p:ph/>
          </p:nvPr>
        </p:nvSpPr>
        <p:spPr>
          <a:xfrm>
            <a:off x="678960" y="1905120"/>
            <a:ext cx="8464680" cy="44956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grown kids lack emotional and ethical maturity (they may actually be very smart and very well educated, so don’t let that fool you).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lack emotional maturity have quick, devastating (to others) emotional reactions any time something does not go their way.  They have no idea how their emotions and their expression of their emotions affect other people.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lack ethical maturity make decisions that benefit themselves primarily, often to the detriment of other people, including those they are supposed to be serving.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common strategies used by overgrown kids:  lying, bullying, manipulating, throwing temper tantrums, requiring others to do inappropriate things.</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ee a pattern of emotional outbursts and/or a pattern of selfish decision making, YOU ARE NOT DEALING WITH AN ADULT, no matter how old this person is or how much authority this person has been given.  </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lide show will contain suggestions for how to deal with an overgrown k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sitional Authority &amp; Power</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al forms of authority and power arise whenever two people have a relationship with one another.  The Authority Position is an externally-granted right to control another person (the Boss).  The Power Position is an externally-granted obligation to obey the control of another person (the Employe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far…</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that authority and power are two different things.  Also, we know that there are two types:  Personal and Positional.  Personal Authority is a critical concept because it gives us vital information about the people we are dealing with every day.  As a concept, Personal Authority helps us to know how much we can trust another person and it can help us to predict another person’s likely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ut wait…there’s mor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to our understanding of authority and power is this:  all relationships between people take place in the form of dyads—groups of two.  No matter if you are a teacher and are in the Authority Position, you have a different relationship with each student in your class.  This key understanding explains why and how different people have different reactions and relationships to different ways of enacting auth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 exampl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a classroom with a bad teacher—one who is childish.  Some students resist this teacher’s authority.  Some students “suck up” to the teacher.  Some students seem not to be affected by the teacher’s poor choices.  Some students react in anger and defiance.  How do we explain these different reactions?  How do we understand which reactions are effective in keeping the teacher’s actions from being hurtful?  Thinking in terms of dyads helps us to do this—that the teacher’s relationship with each student is uni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thority/Power Relationships</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eople in relationship might have equal authority or they might both be in power positions in relation to other authorities.  In this case, the positions the people occupy are not significant to the relationship between the two.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positions become significant and where the confusion begins is with what we call Authority/Power Relationships (abbreviated here and elsewhere as "APRs").  In an Authority/Power Relationship, one person is in a position of authority while the other is in a position of power.  That means one person has the right to command and the other has the obligation to obe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APR’s includ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Stude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s/Employe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Church memb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Teach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or/Play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Chair/Profess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 in the Classroom</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the basic theory of the classroom:  the teacher is in the Authority Position while the students are in the Power Position.   This means that the teacher has a position of authority and the students, by virtue of each one’s position of power, are supposed to do what the teacher s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PR’s in the Classroom</a:t>
            </a:r>
            <a:endParaRPr b="1" lang="en-US" sz="4400" spc="-1" strike="noStrike">
              <a:solidFill>
                <a:srgbClr val="ffffb7"/>
              </a:solidFill>
              <a:latin typeface="Arial Black"/>
            </a:endParaRPr>
          </a:p>
        </p:txBody>
      </p:sp>
      <p:sp>
        <p:nvSpPr>
          <p:cNvPr id="135" name="PlaceHolder 2"/>
          <p:cNvSpPr>
            <a:spLocks noGrp="1"/>
          </p:cNvSpPr>
          <p:nvPr>
            <p:ph/>
          </p:nvPr>
        </p:nvSpPr>
        <p:spPr>
          <a:xfrm>
            <a:off x="838080" y="1905120"/>
            <a:ext cx="830592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ut it gets complicated.  The teacher has a different Authority/Power Relationship with each student.  What could be so difficult about that?  It is because these positions are occupied by PEOPLE and people possess (or fail to possess) Personal Authority (which is emotional and ethical matu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re are the possibiliti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oth people in the APR have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Only the person in the Authority Position has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Neither person in the APR has Personal Author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Only the person in the Power Position has Personal Autho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rpose</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rticle outlines a theory of authority and power that has been published (The Bell Curve, "Games Intellectuals Play:  Authority, Power, and Intelligence" </a:t>
            </a:r>
            <a:r>
              <a:rPr b="0" i="1" lang="en-US" sz="2800" spc="-1" strike="noStrike">
                <a:solidFill>
                  <a:srgbClr val="ffffff"/>
                </a:solidFill>
                <a:latin typeface="Arial"/>
              </a:rPr>
              <a:t>Journal of Black Psychology</a:t>
            </a:r>
            <a:r>
              <a:rPr b="0" lang="en-US" sz="2800" spc="-1" strike="noStrike">
                <a:solidFill>
                  <a:srgbClr val="ffffff"/>
                </a:solidFill>
                <a:latin typeface="Arial"/>
              </a:rPr>
              <a:t>, v. 27, n. 4, November 2001, pp. 477-495) but so far is not one of the major players in the field of classroom management.  Your Praxis III observer will not have heard of this theory.  Yet this theory explains phenomena that other theories don’t explain.  I want you to be aware of these ideas and to evaluate their usefulness for yoursel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th people in the APR have Personal Authority. </a:t>
            </a:r>
            <a:endParaRPr b="1" lang="en-US" sz="4400" spc="-1" strike="noStrike">
              <a:solidFill>
                <a:srgbClr val="ffffb7"/>
              </a:solidFill>
              <a:latin typeface="Arial Black"/>
            </a:endParaRPr>
          </a:p>
        </p:txBody>
      </p:sp>
      <p:sp>
        <p:nvSpPr>
          <p:cNvPr id="137" name="PlaceHolder 2"/>
          <p:cNvSpPr>
            <a:spLocks noGrp="1"/>
          </p:cNvSpPr>
          <p:nvPr>
            <p:ph/>
          </p:nvPr>
        </p:nvSpPr>
        <p:spPr>
          <a:xfrm>
            <a:off x="533520" y="1905120"/>
            <a:ext cx="8610480" cy="4952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good example would be what is supposed to happen (but doesn’t always) in graduate school.  The interesting thing here is that what becomes significant is not the position of authority--teachers in graduate school usually do not have to invoke that kind of authority, e.g., to get the students to be quiet so class can begin --but the personal authority that accrues from expertise and experience.  The professor is respected not because he or she has the </a:t>
            </a:r>
            <a:r>
              <a:rPr b="0" lang="en-US" sz="2000" spc="-1" strike="noStrike" u="sng">
                <a:solidFill>
                  <a:srgbClr val="ffffff"/>
                </a:solidFill>
                <a:uFillTx/>
                <a:latin typeface="Arial"/>
              </a:rPr>
              <a:t>positional</a:t>
            </a:r>
            <a:r>
              <a:rPr b="0" lang="en-US" sz="2000" spc="-1" strike="noStrike">
                <a:solidFill>
                  <a:srgbClr val="ffffff"/>
                </a:solidFill>
                <a:latin typeface="Arial"/>
              </a:rPr>
              <a:t> authority of the professor but because the students recognize the professor's knowledge. Likewise, the professor respects the knowledge of the students.  Professors make assignments with the students' best interest in mind (ethical maturity) and then are negotiated with students and adapted as students reveal what they need and want from the class.  This kind of teaching is a pleasure--and can happen at many different educational levels when teachers both exhibit Personal Authority and encourage its development in their students.  We'll say more about this lat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ly the person in the Authority Position has Personal Authority. </a:t>
            </a:r>
            <a:endParaRPr b="1" lang="en-US" sz="40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other end of the spectrum from graduate school is the three-year-old class for pre-schoolers.  The children have never been to school before. They can feed themselves but their toilet training may be a bit shaky--in other words, they barely have physical control over their bodies, much less intellectual, emotional, and ethical control.  Yet the teacher has all these forms of control and can set the example.  He or she can also help children learn to develop these kinds of control.  Children this age need help in solving conflicts with other children.  They need an adult to help them learn other ways besides grabbing and hitting to accomplish their aims and they need to learn that all people have rights (the basis for ethical maturity).  They need to learn to express their emotions in safe ways (emotional maturity) and ultimately to make decisions based on the common good over how they themselves might feel about something (emotional and ethical mat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ither person in the APR has Personal Authority. </a:t>
            </a:r>
            <a:endParaRPr b="1" lang="en-US" sz="4400" spc="-1" strike="noStrike">
              <a:solidFill>
                <a:srgbClr val="ffffb7"/>
              </a:solidFill>
              <a:latin typeface="Arial Black"/>
            </a:endParaRPr>
          </a:p>
        </p:txBody>
      </p:sp>
      <p:sp>
        <p:nvSpPr>
          <p:cNvPr id="141" name="PlaceHolder 2"/>
          <p:cNvSpPr>
            <a:spLocks noGrp="1"/>
          </p:cNvSpPr>
          <p:nvPr>
            <p:ph/>
          </p:nvPr>
        </p:nvSpPr>
        <p:spPr>
          <a:xfrm>
            <a:off x="228600" y="1904760"/>
            <a:ext cx="861696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classroom in trouble.  No one has personal authority.  The teacher tries to use </a:t>
            </a:r>
            <a:r>
              <a:rPr b="0" lang="en-US" sz="2400" spc="-1" strike="noStrike" u="sng">
                <a:solidFill>
                  <a:srgbClr val="ffffff"/>
                </a:solidFill>
                <a:uFillTx/>
                <a:latin typeface="Arial"/>
              </a:rPr>
              <a:t>positional</a:t>
            </a:r>
            <a:r>
              <a:rPr b="0" lang="en-US" sz="2400" spc="-1" strike="noStrike">
                <a:solidFill>
                  <a:srgbClr val="ffffff"/>
                </a:solidFill>
                <a:latin typeface="Arial"/>
              </a:rPr>
              <a:t> authority to make up for the lack of </a:t>
            </a:r>
            <a:r>
              <a:rPr b="0" lang="en-US" sz="2400" spc="-1" strike="noStrike" u="sng">
                <a:solidFill>
                  <a:srgbClr val="ffffff"/>
                </a:solidFill>
                <a:uFillTx/>
                <a:latin typeface="Arial"/>
              </a:rPr>
              <a:t>personal</a:t>
            </a:r>
            <a:r>
              <a:rPr b="0" lang="en-US" sz="2400" spc="-1" strike="noStrike">
                <a:solidFill>
                  <a:srgbClr val="ffffff"/>
                </a:solidFill>
                <a:latin typeface="Arial"/>
              </a:rPr>
              <a:t> authority, and this does not work.  The kids don't care.  The most obvious examples of this might be in some middle schools, where kids are testing their wings in terms of expressing their power: mouthy kids and a teacher who becomes abusive or helpless in the face of kid-power (remember, power=energy).  It could also be a graduate school class with a tyrannical teacher who scares students into relinquishing their personal authority.  Whether the kids have never had a chance to grow up or they have been pushed into a false, helpless childishness through tyranny, this is a classroom heading for disas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ly the person in the Power Position has Personal Authority. </a:t>
            </a:r>
            <a:endParaRPr b="1" lang="en-US" sz="4000" spc="-1" strike="noStrike">
              <a:solidFill>
                <a:srgbClr val="ffffb7"/>
              </a:solidFill>
              <a:latin typeface="Arial Black"/>
            </a:endParaRPr>
          </a:p>
        </p:txBody>
      </p:sp>
      <p:sp>
        <p:nvSpPr>
          <p:cNvPr id="143" name="PlaceHolder 2"/>
          <p:cNvSpPr>
            <a:spLocks noGrp="1"/>
          </p:cNvSpPr>
          <p:nvPr>
            <p:ph/>
          </p:nvPr>
        </p:nvSpPr>
        <p:spPr>
          <a:xfrm>
            <a:off x="914040" y="1905120"/>
            <a:ext cx="79311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yn remembers being a student in two graduate school classes from Hell.  In both of them, the professors lacked personal authority.  Their demands were unreasonable, they blamed others for their own failures, and they had no concept of their effect on other people.  In one of the classes, the professor wanted to write a book about the unique and wonderful teaching methods she and her colleague were using.  They had no idea that the students hated the class because of how the professors treated them.  Carolyn led a coup d’etat in one class that resulted in the professor no longer having control over the class.  In the other class, she did not cooperate when the professors overstepped their boundaries and she made sure that the professors’ antics did not affect her negatively in the long run (e.g., bad gr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5" name="PlaceHolder 2"/>
          <p:cNvSpPr>
            <a:spLocks noGrp="1"/>
          </p:cNvSpPr>
          <p:nvPr>
            <p:ph/>
          </p:nvPr>
        </p:nvSpPr>
        <p:spPr>
          <a:xfrm>
            <a:off x="838080" y="1905120"/>
            <a:ext cx="830592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imperative for teachers to have personal authority for many reason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sonal Authority helps teachers to be effective.  Personal authority means that no matter what method or curriculum you are mandated to use, you use your own authority to address the needs of each child in the classroom.   These days, it is possible that you will be given guidelines on what you teach.  Reading teachers in Columbus are actually given a script to be read in the class for exactly how the district wants reading to be taught.  Personal authority (ethical maturity) means that you will do you best to see that children learn either with or </a:t>
            </a:r>
            <a:r>
              <a:rPr b="0" lang="en-US" sz="2400" spc="-1" strike="noStrike" u="sng">
                <a:solidFill>
                  <a:srgbClr val="ffffff"/>
                </a:solidFill>
                <a:uFillTx/>
                <a:latin typeface="Arial"/>
              </a:rPr>
              <a:t>despite</a:t>
            </a:r>
            <a:r>
              <a:rPr b="0" lang="en-US" sz="2400" spc="-1" strike="noStrike">
                <a:solidFill>
                  <a:srgbClr val="ffffff"/>
                </a:solidFill>
                <a:latin typeface="Arial"/>
              </a:rPr>
              <a:t> district- or state-mandated methods.  It also means being willing to stand up and be counted publicly instead of being afraid of what the bullies in Central Office (or whereever) might 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solves interpersonal problems.  Your emotional and ethical maturity will help when you are dealing with children, their parents, your colleagues, and your administration.  You will not escalate a problem just because you feel threatened.  Instead, you will look at any conflict from several perspectives, acknowledge where you have made mistakes, make amends, try to find common ground, seek others' opinions, and take actions based on the greatest good for all concern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PREVENTS problems.  For one thing, a high maturity level means you are aware of lesser maturity levels.  You can therefore predict where problems are likely to happen and you can head them off before they become hurtful.  You can do this no matter if you are dealing with youngsters in the classroom or overgrown kids at a faculty meeting or district mee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can create personal satisfaction even in a hostile environment.  You are not beholden to a withholding positional authority for evaluation of your work.  You know what you are doing. Personal Authority allows you to assess your supervisor.  If this person is an adult, his/her opinion may be extremely helpful.  If he/she is an overgrown child, then you have to sift out the good from the inappropriate in the feedbac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Authority leads to positive change.  Even in the small arena of a classroom, life can become very pleasant and positive because of Personal Authority.  That small classroom can be a haven even within a less than ideal school.  Create a space that is governed by Personal Authority of both teacher and students, and that little space can have an effect on other parts of the school.  Remember that many of the people who have helped to make changes did so through Personal Authority, not Positional Authority (Gandhi, Rosa Parks, the many people who created and maintained the Underground Railro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sonal Authority &amp; Teaching</a:t>
            </a:r>
            <a:endParaRPr b="1" lang="en-US" sz="4000" spc="-1" strike="noStrike">
              <a:solidFill>
                <a:srgbClr val="ffffb7"/>
              </a:solidFill>
              <a:latin typeface="Arial Black"/>
            </a:endParaRPr>
          </a:p>
        </p:txBody>
      </p:sp>
      <p:sp>
        <p:nvSpPr>
          <p:cNvPr id="155"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can help you avoid problems with immature folk in positions of authority.  First of all, when you have personal authority, you can figure out what people in positions of authority are seeking because you know not only what it is to be adult, but you also know and understand childish foibles.  For example, when Carolyn worked at another college, the head of her department was an overgrown child who clearly needed to be recognized—she needed to have attention paid to her.  She needed public admiration.  When Carolyn had an opportunity to do that in a very public and very positive way, she did.  While this person could be, and often was, unpleasant, she was never unpleasant or unprofessional with Carolyn because Carolyn had recognized her need and addressed it.  By the way, this is an example of the dyadic nature of relationships:  Carolyn was in a relatively positive APR with this person, but many other people were in negative APR’s with h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troduction</a:t>
            </a:r>
            <a:endParaRPr b="1" lang="en-US" sz="4400" spc="-1" strike="noStrike">
              <a:solidFill>
                <a:srgbClr val="ffffb7"/>
              </a:solidFill>
              <a:latin typeface="Arial Black"/>
            </a:endParaRPr>
          </a:p>
        </p:txBody>
      </p:sp>
      <p:sp>
        <p:nvSpPr>
          <p:cNvPr id="103" name="PlaceHolder 2"/>
          <p:cNvSpPr>
            <a:spLocks noGrp="1"/>
          </p:cNvSpPr>
          <p:nvPr>
            <p:ph/>
          </p:nvPr>
        </p:nvSpPr>
        <p:spPr>
          <a:xfrm>
            <a:off x="609480" y="1905120"/>
            <a:ext cx="82360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in the classroom seems to be a straightforward matter.  The teacher has the authority and the students don't.  The teacher has control and the students respond to that control.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least, that is the theory.  Yet there are both positive and negative examples that belie the theory.  On the negative side, how many teachers have actually gotten assaulted in the classroom by students?  How many teachers have no real control in the classroom?  On the positive side, why do the so-called "student-centered" methods such as Whole Language or Reading/Writing Workshop work?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is really going on in the classroom?  Where does control come fr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 &amp; Teaching</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should teachers have personal authority, but we should be encouraging our students to develop personal authority.  The best teaching situations are ones in which teacher and students pursue knowledge together because all concerned are mature.  Such a class is a joy to be part of.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ituation can happen with people of all ages--maturity is not an age-related phenomenon.  Personal Authority is why Writer's Workshop and other student-centered teaching methods can work if they are well-managed.  These methods involve students making their own decisions about what they read and write, which is an aspect of Personal Autho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ow to develop Personal Authority</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teachers:  instruction, example, and experience.  You have your choice, but before you make it, hear what these teachers will give you and how they will do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struction</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 is the easiest teacher.  Instruction tells you something and gives you knowledge.  We are instructing you about Personal Authority, and now you have some knowledge of the concept.  This knowledge did not cost you much except some time--you just had to read or listen in order to get it. Because this knowledge didn’t cost you much, you might not value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s easy for you but hard for someone else.  You learn from someone else's pain and through this you gain wisdom.  If you watch a movie about Rosa Parks, then you will learn something about Personal Authority through her example.  She paid a high price for what she did, but you benefit by learning how one person can play a big part in altering tyrann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perience</a:t>
            </a: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 is the hardest teacher, because you personally pay for every lesson.  Through experience, you gain understanding, which is the richest form of learning.  There are some things you can only learn from experience.  As much as you have learned about teaching through instruction and example in your college degree program, you will learn far more through your first year of teaching experience.   This will be emotionally much more difficult and because this way of learning costs a lot emotionally, it will stick with you a long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3 “Teachers” at School</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group of teachers exists in our schools.  Instruction is lecture.  Examples might be audio-visual aids.  Experience is "hands-on" learning.  As teachers we prefer more active forms of learning; we want children to learn through "hands-on" experiences.  We know that experience leads to the richest form of learning in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3 “Teachers” at Home</a:t>
            </a:r>
            <a:endParaRPr b="1" lang="en-US" sz="4400" spc="-1" strike="noStrike">
              <a:solidFill>
                <a:srgbClr val="ffffb7"/>
              </a:solidFill>
              <a:latin typeface="Arial Black"/>
            </a:endParaRPr>
          </a:p>
        </p:txBody>
      </p:sp>
      <p:sp>
        <p:nvSpPr>
          <p:cNvPr id="169" name="PlaceHolder 2"/>
          <p:cNvSpPr>
            <a:spLocks noGrp="1"/>
          </p:cNvSpPr>
          <p:nvPr>
            <p:ph/>
          </p:nvPr>
        </p:nvSpPr>
        <p:spPr>
          <a:xfrm>
            <a:off x="838080" y="1904760"/>
            <a:ext cx="83059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earn how to relate to other people by instruction, example, and experience.  The Bible tells us to love our neighbor as ourself, which is instruction.  The Bible also gives examples of loving one’s neighbor.  But it takes experience to really understand the concept.  In inter-personal relationships, experience leads to rich learning, but it tends to be more painful because what we are learning hits closer to who we are as people.  The more we can learn about relationships through instruction and example, the less painful will our existence b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on developing Personal Authority</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l and ethical maturity are hard to learn.  We can learn intellectually (through instruction) about the characteristics of Personal Authority, and yet not be able to act in a way that reflects Personal Authority simply because intellectual knowledge is not sufficient.   We must experience the process of making an ethical decision and actually following through with that decision—walking the walk along with talking the tal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523520"/>
            <a:ext cx="8007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ost likely to lose maturity when we are upset.  Personal Authority does not mean not getting upset.  It means, instead, when you are upset, a little voice in the back of your head lets you know that you are not the only person who is affected by what is going on.  It means you take some time to figure out how events are affecting other people and what a good outcome might be for all involved.  It means being willing to sacrifice some of your own well-being for a greater good—and being able to figure this out despite feeling awful about what is going on.  It means that once you have decided what is the right thing that you follow through and do what you know is right to 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easy to do.  This will be some of the hardest things you have had to do.  And you might not see an immediate reward.  In fact, things might get more difficul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Power/Powerless Model</a:t>
            </a:r>
            <a:endParaRPr b="1" lang="en-US" sz="4000" spc="-1" strike="noStrike">
              <a:solidFill>
                <a:srgbClr val="ffffb7"/>
              </a:solidFill>
              <a:latin typeface="Arial Black"/>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some theorists who believe authority is a zero sum game or Power/Powerless model—that when one person has authority, another person necessarily lacks it.  Teachers have authority and students don’t have authority in this theory.  Yet this does not explain classroom reality.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se a music-based example:  I went to a high school that had a really good orchestra.  My generation of students won I’s in contest for the 25</a:t>
            </a:r>
            <a:r>
              <a:rPr b="0" lang="en-US" sz="2400" spc="-1" strike="noStrike" baseline="30000">
                <a:solidFill>
                  <a:srgbClr val="ffffff"/>
                </a:solidFill>
                <a:latin typeface="Arial"/>
              </a:rPr>
              <a:t>th</a:t>
            </a:r>
            <a:r>
              <a:rPr b="0" lang="en-US" sz="2400" spc="-1" strike="noStrike">
                <a:solidFill>
                  <a:srgbClr val="ffffff"/>
                </a:solidFill>
                <a:latin typeface="Arial"/>
              </a:rPr>
              <a:t> year in a row.  As contest approached, the first violin section volunteered to hold a sectional at one of the students’ houses, during the evening.  The orchestra director did not require us to do this—so his authority was not involved at all.  We chose to do this because we were invested in maintaining the high standards of the group.  This was an example of students using their own authority in order to help meet the goals of a group.  The Zero Sum Game (or Power/Powerless Model) idea of authority does not explain this si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 example</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Carolyn, had an employee, for whom I was the boss.  I became aware through reports from other people that this employee was possibly stealing from the agency.  At this point, I had no proof that the person was stealing.  I didn’t know what to do, so I called Juanita.  She gave me advice I didn’t want to hear:  she told me that I needed to talk with the employee about the accusations being made about her.  Then I would need to tell my boss that I had talked to the employee (“D.”).  I was all in favor of letting others in the agency handle the whole thing.  But Juanita let me know that I had an obligation to do these things.  I cannot communicate to you how much I DID NOT WANT TO DO ANY OF WHAT JUANITA TOLD ME.  I could not sleep the night before.  I dreaded going to work.  I really felt b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79" name="PlaceHolder 2"/>
          <p:cNvSpPr>
            <a:spLocks noGrp="1"/>
          </p:cNvSpPr>
          <p:nvPr>
            <p:ph/>
          </p:nvPr>
        </p:nvSpPr>
        <p:spPr>
          <a:xfrm>
            <a:off x="762120" y="1905120"/>
            <a:ext cx="808344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inside my heart of hearts, I knew that Juanita was right.  I knew I would do what she suggested.  I knew that if I did, things would work out, but if I failed to, there could be many other negative consequence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 swallowed hard, and talked with D.  I told her that some accusations had been made.  She asked me what I believed, and I told her I had no evidence that she had taken anything.  She asked me what was going to happen and, since I had not talked with anyone else at the agency, I could tell her honestly that I did not know.</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 had a fit (privately).  I really did not want to tell my boss what I had done because I knew that my boss would not be happy with my having revealed the accusations to the employee.  I thought I was going to be fired.  It felt like I was going to an execution—mi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almed down and then went to my boss’s office and told her what had happened, including that I had talked with D.  She simply said, “I wish you hadn’t done tha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ency did not immediately fire the employee.  Instead, they allowed her to continue to work the area in which she had been accused of stealing (a fundraiser) only they had board members watching her, unbeknownst to 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found out what the agency was choosing to do, I felt so relieved that I had talked to the employee.  The agency found that she was continuing to steal.  I knew because of my conversation that she had been warned that the agency had a concern.  I felt that since she continued to steal in light of this warning, that she had a psychological problem.  When the firing came down, I felt absolutely clear about it—I knew that she had had every possible chance to clear herself and for whatever reason, she chose or was not able to do 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 had a clear conscience.  This was a good thing, because I was not permitted to discuss the situation.  But the employee had no such limitation.  She chose to let other employees know that she had been fired and she felt that her firing was unfair.  I had some very unhappy workers on my hands.  This part was difficult to go through.  And yet, because my conscience was clear, I could ignore some of the grumbling and let time take care of it.  This part of my story is an example of things getting worse after doing the right 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800748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s later, another of the employees talked with me about that situation.  We were neither employed at that agency, so I was able to talk about my feelings and my side of the story.  This person told me that she figured I must have had reason to fire D., because I seemed to be the kind of person who would not do something unfairly.  This conversation was a huge reward for taking the high road (the Personal Authority road), but this reward came four or five years after the events happened.  Before this conversation, my reward was a clear conscience, and that really was suffic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1" name="PlaceHolder 2"/>
          <p:cNvSpPr>
            <a:spLocks noGrp="1"/>
          </p:cNvSpPr>
          <p:nvPr>
            <p:ph/>
          </p:nvPr>
        </p:nvSpPr>
        <p:spPr>
          <a:xfrm>
            <a:off x="609480" y="1676160"/>
            <a:ext cx="823608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have a right to know when there are accusations against themselves.  It was imperative that D. be told that this was going on.  It was good that I told her before I had a chance to talk with anyone else at the agency because I had nothing I was required to hide at that point.  Later on, I was aware of the agency plans to deal with the accusations, and I would have been required to keep those plans confidential.  The conversation would have been much more awkward than it was had I put it off until discussing it with my supervisor.  In fact, my supervisor might have specifically told me not to discuss anything with D., in which case, I would not have been able to let D. know of the possible trouble.  Had this happened, D. would not have had the opportunity to clear her name by continuing to work the fundraiser but not steal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3" name="PlaceHolder 2"/>
          <p:cNvSpPr>
            <a:spLocks noGrp="1"/>
          </p:cNvSpPr>
          <p:nvPr>
            <p:ph/>
          </p:nvPr>
        </p:nvSpPr>
        <p:spPr>
          <a:xfrm>
            <a:off x="685800" y="1371600"/>
            <a:ext cx="823608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s have a right to know what you are doing, whether they approve of your actions or not.  It is far better to tell on yourself than it is to let someone else tell on you.  My boss needed to know exactly what had gone on and who knew what so she could make the decisions she needed to make.  It would have been dishonest to hide my conversation with D. from my boss, and if I had kept it secret from my boss and then D. had revealed it, I would have been in extra deep trouble.  I try to give my bosses a “heads up” if I even have the suspicion of possible trouble.  I also try to be the first one to reveal the mistakes I have made and my attempts to deal with those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lear conscience can really make a huge difference.  The whole situation put a lot of pressure on me because some of my workers were angry with me.  Yet I knew they didn’t know the whole story and if they did know the whole story, they would have supported my actions.  Because of feeling I had done the right thing, I was able to weather the st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uthority and Power</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verarching concepts of our model are Authority and Power.  Authority is control and power is energy.  You can have an action that consists of all power (such as a thunderstorm or an explosion--uncontrolled energy) but you cannot have an action that is all authority.  Authority simply controls pow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ther theories use the word “power” for both control and energy.  We feel it is important to break those concepts apart.  When these concepts are broken apart, the possibilities become complex in a way that explains the complexities of human behav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7" name="PlaceHolder 2"/>
          <p:cNvSpPr>
            <a:spLocks noGrp="1"/>
          </p:cNvSpPr>
          <p:nvPr>
            <p:ph/>
          </p:nvPr>
        </p:nvSpPr>
        <p:spPr>
          <a:xfrm>
            <a:off x="456840" y="1295280"/>
            <a:ext cx="83883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is not something that is gained and one’s behavior is always governed by it.  During the times in between all this talking I had to do, I felt terrible about what I needed to do and I felt angry that I had to do it.  I was resistant, reluctant, and resentful.  That part of my behavior did NOT reflect Personal Authority.  However, when I was in the presence of people who could be negatively impacted by my behavior (the employee and my boss), I was able to behave in a way that reflected personal authority.  This is because we never lose the “little kid” inside us and that “little kid” is most prone to be present when we are under stress.  Yet personal authority allows us to choose when, to whom, and how we express those childish (and perfectly natural) emo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199" name="PlaceHolder 2"/>
          <p:cNvSpPr>
            <a:spLocks noGrp="1"/>
          </p:cNvSpPr>
          <p:nvPr>
            <p:ph/>
          </p:nvPr>
        </p:nvSpPr>
        <p:spPr>
          <a:xfrm>
            <a:off x="380520" y="1904760"/>
            <a:ext cx="84646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a well-meaning boss will not understand the rightness of a personal authority principle.  In my situation, there was a window of opportunity for action </a:t>
            </a:r>
            <a:r>
              <a:rPr b="0" lang="en-US" sz="2400" spc="-1" strike="noStrike" u="sng">
                <a:solidFill>
                  <a:srgbClr val="ffffff"/>
                </a:solidFill>
                <a:uFillTx/>
                <a:latin typeface="Arial"/>
              </a:rPr>
              <a:t>before</a:t>
            </a:r>
            <a:r>
              <a:rPr b="0" lang="en-US" sz="2400" spc="-1" strike="noStrike">
                <a:solidFill>
                  <a:srgbClr val="ffffff"/>
                </a:solidFill>
                <a:latin typeface="Arial"/>
              </a:rPr>
              <a:t> I spoke with my boss that would have disappeared after I spoke with my boss.  Before speaking to my boss, the authority I was using was primarily my own personal authority.  After speaking with my boss, her positional authority would be asserted over me in how this situation was going to be handled.  This period of time is a double-edged sword:  on the one hand, until you hand a problem over to the boss, you have choices in how you handle it.  At the same time, as you hand over the problem to a higher authority, you must reveal your own actions, so those actions had better be right in your own mi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issue here is “blamelessness.”  A person cannot be accused of wrong doing if:  an action is based in Personal Authority AND that action has not been specifically prohibited by positional authority.  In other words, actions must be based in ethical/emotional maturity and they must be allowed within the scope of normal operations of the institution.  I was allowed, in the normal operation of my job, to speak with this employee and I was speaking to her with a Personal Authority concern.  If she had been innocent, then she could have used this information to correct a mistak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imes in which Personal Authority will conflict with the rules of the institution.  In this situation, the idea of blamelessness lies in the spiritual realm. Rosa Parks was spiritually blameless for retaining her seat on the bus because the racism that led to the “back of the bus” rule is fundamentally wrong.  Yet one has to be willing to bear consequences of one’s behavior from the “natural” realm because this behavior will not be identified as blameless there.  Although we think of Rosa Parks as a hero, at the time, she was arres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certain things positional authority can control and require and there are certain things in one’s life that are  beyond the control of positional authority.  Positional authority cannot control your personal opinion—that is part of your personal author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7" name="PlaceHolder 2"/>
          <p:cNvSpPr>
            <a:spLocks noGrp="1"/>
          </p:cNvSpPr>
          <p:nvPr>
            <p:ph/>
          </p:nvPr>
        </p:nvSpPr>
        <p:spPr>
          <a:xfrm>
            <a:off x="-360" y="1295280"/>
            <a:ext cx="876924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hing overgrown children will try to get you to do is to volunteer to give up your personal authority.  They will make you feel uncomfortable if you bring up certain topics.  They use your silence to their advantage.  In fact, they hide behind your silence.  An example of this is when Juanita and Carolyn worked in a social service agency.  Their boss, “B.” was fired by the overgrown child in command.  What accompanied the firing was an unspoken agreement by all the staff not to speak of B. again.  Juanita and Carolyn orchestrated a simple letter signed by several people whom B. had supervised, simply stating that B. was appreciated and missed.  There was no demand to bring B. back.  All we did was to challenge the silence about B’s departure.  Because this statement of appreciation was well within our personal authority, none of us who signed the letter got fired.  The letter, we later found out, helped B. to get the unemployment to which she was entitled and it caused the person in command to change some of her pract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09" name="PlaceHolder 2"/>
          <p:cNvSpPr>
            <a:spLocks noGrp="1"/>
          </p:cNvSpPr>
          <p:nvPr>
            <p:ph/>
          </p:nvPr>
        </p:nvSpPr>
        <p:spPr>
          <a:xfrm>
            <a:off x="-360" y="1905120"/>
            <a:ext cx="884556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Authority is a wonderful concept because it can be the basis for instigating positive change.  It does, however, have its limits because you have your limits.  It’s not personal authority when you try to control other people.  Personal Authority is simply self control—making active and thoughtful decisions about what you will do.  There have been times when Juanita and I have found it necessary to express our opinions, knowing that the process of expression was important but also knowing that nothing would change in the immediate future because of those statements.  This happened when Carolyn was in one of those awful graduate school classes:  the professors reamed out the students for failing to guess how to do a particular assignment.  Carolyn went to both professors’ offices and expressed the opinion that the reaming out was inappropriate.  The professors did not apologize or change their basic approach immediately.  Change came about slowly within that class and neither of the professors fundamentally changed their approach to students once Carolyn’s class was finished.  Remember that the Pharoah did not change easily when Moses asked him to let the Israelites go.  But Moses had to keep bringing up the top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1" name="PlaceHolder 2"/>
          <p:cNvSpPr>
            <a:spLocks noGrp="1"/>
          </p:cNvSpPr>
          <p:nvPr>
            <p:ph/>
          </p:nvPr>
        </p:nvSpPr>
        <p:spPr>
          <a:xfrm>
            <a:off x="-360" y="1295280"/>
            <a:ext cx="88455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y to staying out of trouble is to know where the boundaries are of your legitimate control.  When dealing with the awful professors, Carolyn told them, in an even and nonangry tone of voice, that in her opinion, the way the students were treated was wrong.  The worst professor stated that she disagreed with Carolyn.  Carolyn did not argue.  She simply ended the conversation.  She had a right to her opinion and to state it, but she didn’t have a right to argue, once the professor stated her opinion (a right the professor also had).  The utility of Carolyn stating her opinion was not in getting the professor to change (although that would have been very nice had it happened and Carolyn would have been the first person to support that change).  Rather, the utility lay in establishing a pattern:  every time the professors did something that was inappropriate, they could expect some consequences—a visit from a student who was unafraid to express her opinion.  The worst professor had long been used to scaring students into sil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5120"/>
            <a:ext cx="8007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on yourself first.  If you have made a mistake, own up to it, whether it is in front of your students or in front of your boss.  Be forthright in exactly what you did that was wrong and why it was wrong.  This is extremely painful in the short run and extremely helpful in the long run.  In the short run, it’s scary because you don’t know how people will react, particularly when you are dependent on the income from your job.  What often happens, though, is that people respect a forthright person and what began as a real problem can become something g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les</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pology goes a long way toward making things righ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Authority &amp; Power</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kinds of authority and power.  That which is bestowed upon a person by some outside entity is called "Positional."  That which a person possesses within him or herself is called "Pers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your classroom rules assume that your students are capable of making mature decisions.  Do not teach to the lowest common denominator.  For example, a teacher who presents a lot of rules that are designed to prevent cheating is clearly expecting students to cheat.  Try to assume that students are going to be reasonable in their actions, given their age, and have a backup plan in case individual students need more guida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you model what you are expecting students to do.  You need to be the example.  In fact, the example you set is your authority to speak.  If you fail to set the example, you cannot require it from other people.  Teaching is not a case of telling kids “Do as I say, not as I do.”  That doesn’t work because it completely relies on Positional Authority and not Personal Authority.  Kids don’t respond to Positional Authority the way they used 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let the little kid inside of you decide how you will deal with a troublesome situation.  If you have to, get yourself out of the situation for a moment (go to the bathroom) so you can calm down and sort things out.  Otherwise, you will end up saying or doing something that will cause you no end of trouble.  Remember that these days, things in school end up on the 6 p.m. news awfully easi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tudent will be at a different level of development in terms of personal authority.  Every student will also have a zone of proximal development, where with some help he or she will be able to act in a more mature fashion.  Be aware of each student’s maturity as you interact.  When you have an opportunity to ask a student to do something mature, try to set up the situation for success.  For example, a student with ADHD is probably very impulsive.  Ask that student to control his or her behavior for short periods of time (1-2 minutes at first) and be sure to acknowledge positively any success that student h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hlberg’s moral development ideas can be helpful here.  Remember that a child who is in stage 1-2 thinks of things in terms of punishment and obedience.  An argument about a universal sense of justice (stage 6) will not make sense to that child.  Remember to stay in the ZPD in order to help a student grow, which might mean offering two reasons when you are requiring a child to do something different in his/her behavior:  a reason that is within the stage the child is in and a reason that is within the next stage of develop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elping Students to Develop Personal Authority</a:t>
            </a:r>
            <a:endParaRPr b="1" lang="en-US" sz="4000" spc="-1" strike="noStrike">
              <a:solidFill>
                <a:srgbClr val="ffffb7"/>
              </a:solidFill>
              <a:latin typeface="Arial Black"/>
            </a:endParaRPr>
          </a:p>
        </p:txBody>
      </p:sp>
      <p:sp>
        <p:nvSpPr>
          <p:cNvPr id="227" name="PlaceHolder 2"/>
          <p:cNvSpPr>
            <a:spLocks noGrp="1"/>
          </p:cNvSpPr>
          <p:nvPr>
            <p:ph/>
          </p:nvPr>
        </p:nvSpPr>
        <p:spPr>
          <a:xfrm>
            <a:off x="914040" y="1905120"/>
            <a:ext cx="79311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at just as personal authority is a struggle for adults, it can be a struggle for students, as well.  We all regress.  When a normally mature student regresses, try to find out what is going on that is causing the regression and have a little mercy on that student.  A relatively mature person will feel deep embarrassment when his/her behavior fails to meet reasonable standards.  Oftentimes that embarrassment is sufficient to ensure the problem will not repeat itself.  At the same time, your mercy will ensure that the student will see you as an ally and might come to you before a problem happens the next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mmary</a:t>
            </a:r>
            <a:endParaRPr b="1" lang="en-US" sz="44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authority is where it is at.  It is far more significant than positional authority because with it, you can influence people who are “above” you in terms of position.  You can also effectively lead the people who are “below” you in terms of posi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Power</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Personal Power all of our lives--that is what we are born with which allows us to breathe, our hearts to pump, our limbs to move.  It is our personal energy. Short of killing you, no one can take away your personal power.  Be sure that you think of “energy” when you read the word “power” in this slide show because we are not meaning any form of control with this version of po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ersonal Authority</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uthority is the ability to control oneself.  We are not born with this; rather, various forms of control can accrue to us as we grow up.  For example, when we are born, we cannot feed ourselves, we cannot talk, we have no control over our emotions, and we have no sense of right and wrong.  Personal authority consists of four types of maturity:  physical (the ability to control our own bodies), intellectual (the ability to learn and to use information), emotional (the ability to make choices about how and when we express emotions), and ethical (the ability to make choices that are beneficial to other people and not just to ourselves).  We gain physical maturity simply by living and intellectual maturity simply by learning.  The higher forms of maturity are the more difficult to gain--emotional maturity and ethical matu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has Personal Authority</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people in the world:  those who have Personal Authority (especially emotional and ethical maturity) and those who lack it.  We call those who have it “Adults” and those who lack it “Children.”  Please keep in mind that these labels do not imply anything about chronological age:  there are people who are chronologically children who are more ethical than people who have lived for a long time.  The reason we use these labels for these two types of people is to point out that the purpose of childhood is for people to develop the four different types of maturity.  The purpose of parents and teachers is to help immature people to become matur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23:16:46Z</dcterms:created>
  <dc:creator>Capital University</dc:creator>
  <dc:description/>
  <dc:language>en-US</dc:language>
  <cp:lastModifiedBy>Capital University</cp:lastModifiedBy>
  <dcterms:modified xsi:type="dcterms:W3CDTF">2006-12-29T19:32:01Z</dcterms:modified>
  <cp:revision>49</cp:revision>
  <dc:subject/>
  <dc:title>Authority, Power, and Education</dc:title>
</cp:coreProperties>
</file>